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470-3511-48C4-BAAE-72BFAF56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87E-AB4C-4894-A0C4-8F2C9D16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B8F-1FAA-4816-BD0D-61726937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CE7-8B29-45DA-AC7E-6FB99873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837-7CBF-4F92-93D7-FA98D0D1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4A94-A56A-43D6-8C90-174DA56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2D8E-F1D1-4C2F-A26A-AADC6897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1BED-0678-480A-A91F-869DB35D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6109-12D4-4FB0-9368-249C16D0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B8F6-FE21-4782-A09F-C6854037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4D26-D330-4025-8087-F8D6DBC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F79-DCCA-4E5C-A79B-55CC2BE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8072-36DF-447A-A5F2-2690E63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B28-D7A8-4E51-8485-3A21EBD2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A4C-6FDC-49AC-BA43-680C288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8BF4-9DAE-4814-8EC4-50CAADA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B9E-966C-40A3-923E-867EA8FE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765-6909-4365-8F6F-0AA1ECD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E62-42D4-4C8E-9016-033DBCC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052-049F-4785-8CF3-1E802319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8D6-6434-4175-A3CA-650974A9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024-B213-42B4-AF95-AB2F46D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C69-E143-4DED-BF56-5597E69D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C8E-AA1C-43C1-896E-21CBD99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279B-5416-4057-860A-4B79095B4D2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22C1-BC09-4DD2-BF43-E09D58B2C47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arm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your reactions to the following pic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99556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317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umanze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12, 9/8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 and describe the traits and actions of humans and other pr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human traits and actions to those of pr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the uniqueness, or not, of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us hum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: Jane Goodall’s story (pg. 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: “Human Ap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surprised by anything Dr. Goodall observed? What?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 and watching, do you focus more on similarities or differences of humans and chimps?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non-human organism per trait li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n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ait that sets humans apart 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animals?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6:17:10Z</dcterms:created>
  <dc:creator>Jimmer Comerford</dc:creator>
  <dc:description/>
  <dc:language>en-US</dc:language>
  <cp:lastModifiedBy>Jimmer Comerford</cp:lastModifiedBy>
  <dcterms:modified xsi:type="dcterms:W3CDTF">2009-09-08T06:25:59Z</dcterms:modified>
  <cp:revision>2</cp:revision>
  <dc:subject/>
  <dc:title>Warm-up</dc:title>
</cp:coreProperties>
</file>